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B5D-A914-4FE1-9537-ED3652B44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993C-8957-4562-9DCB-1B7E5E64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6EB-D179-43BB-ACA7-91D98336C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188D-D67D-42B8-BED7-626EF41B6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356C-5A0F-4C8A-BD89-65A348DD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33DD-532D-4887-B676-3432F429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AEB2-10AB-413D-B071-5077EBB3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D63-78EE-4020-B951-05FB520D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7000-D660-4C1B-8841-9FA787A7E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ECD-169B-473A-B72D-C26FCCF74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57A3-FA36-48EF-A37B-9CA7A6FB0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DBC7-D4D9-43C5-9F6B-5717DA798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041-093A-49C9-A2A7-33CBFE64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845-1EB2-4FB6-8FD6-15A63625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62D-D0D5-4C3B-91FA-5C8914B9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CEC-D4BA-458B-ACE7-9424456A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6BEF-78AC-47FD-8B20-566D8B6F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867-907F-4689-91C7-15F1314A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874E-A9FE-413A-B812-66B61E6B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230-3B2C-4F7A-9EFA-D2673DE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4B0-A682-4D5B-B8C7-E61DC2B5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D3D-053D-4AAD-A2CF-1CEA171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2E74-6C91-4B9A-AD97-C1A908D9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777-54AE-4F6B-9C30-FE122BA1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230-49BD-4298-8666-42D5728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DADA-4BA1-4E71-9FDE-D3AB78D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161-7B32-46D6-B260-FD42BD8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A7EC-4012-44BC-AE35-CCB3815A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5F8C-F81E-4818-95C3-2255D44B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1829-487C-46B8-8115-5F1E23E4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F0379-12E7-4CF6-83D6-BE266D4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9AF7-2FA2-42C8-85FC-A0AFF5B5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819F-651C-4D10-B64F-9396B4EA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462A-BE4D-404F-B4CA-0F79D0C3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79F-CCD2-4718-AD9E-73D15289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11B98-D105-425B-B2C3-49119AA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C964-C6FA-4706-8F58-1683D3B8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1F80-1E50-417F-AB5E-0911383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6164-A1EF-4D7D-896A-33A93C9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21AC-6A13-4614-AAB1-A406EB2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AE9F-CDB8-4F82-AAC9-E00F13E8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A150-7C85-4A69-8D55-6657982C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3DE3-97EA-4019-9D0A-31B8CABD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821E-08F5-4617-852B-08DE9559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0474-CD10-4779-B324-AAEC5A64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A41-0CB9-452C-B4E2-FF5C0263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350A-F13C-480A-BD89-140B2426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A3E9-76B4-4984-8FE8-49AF014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5E85-5CDE-4749-B5A7-215D146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873BC-5D60-4D3A-ADB7-C114DD6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8A712-0E1D-41D4-9D28-D043758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94B6-8C72-4775-95CA-16FAA0C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A839-1ED1-4F6D-B91A-3CC3470A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4148-CEB3-4F1D-BD1B-FC330987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B66A-EFE8-496F-9918-ECD9E919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D23-269B-4297-B6C3-874A232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62B-A092-4919-B7B6-395E0F0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329-EDFA-4E33-877D-FC76356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040-9F5E-4A6F-81C6-3267D6B9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C41-8904-48B0-99C6-2C0549A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2BF-217D-440E-8C93-17A9711680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B23-1514-4214-9343-0792184773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A3B-7C22-4EE4-99C3-098A5FFFB1D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E1B-DB04-4A3E-87AD-2A45B0B2C1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75360" cy="1944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si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images-7.jpeg"/>
          <p:cNvPicPr/>
          <p:nvPr/>
        </p:nvPicPr>
        <p:blipFill>
          <a:blip r:embed="rId2"/>
          <a:stretch/>
        </p:blipFill>
        <p:spPr>
          <a:xfrm>
            <a:off x="2362320" y="914400"/>
            <a:ext cx="6476760" cy="52578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928800" y="2057400"/>
            <a:ext cx="1071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mériqu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928800" y="2057400"/>
            <a:ext cx="10710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7" descr="images-8.jpeg"/>
          <p:cNvPicPr/>
          <p:nvPr/>
        </p:nvPicPr>
        <p:blipFill>
          <a:blip r:embed="rId2"/>
          <a:stretch/>
        </p:blipFill>
        <p:spPr>
          <a:xfrm>
            <a:off x="2819520" y="9907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Europ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EUROPE-MAP-clic.png"/>
          <p:cNvPicPr/>
          <p:nvPr/>
        </p:nvPicPr>
        <p:blipFill>
          <a:blip r:embed="rId2"/>
          <a:stretch/>
        </p:blipFill>
        <p:spPr>
          <a:xfrm>
            <a:off x="1600200" y="1143000"/>
            <a:ext cx="60595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905120" y="1219320"/>
            <a:ext cx="5715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vous dis dans quelle capitale, je suis et vous devez écrire dans quel pays je me trouv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avez compri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1295280" y="914400"/>
            <a:ext cx="670572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ez une feuille et écrivez le nom des capi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1295280" y="1828800"/>
            <a:ext cx="670572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is regardez la carte de l’Europe et écrivez le numéro du Pays où je me trou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Europ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europa.gif"/>
          <p:cNvPicPr/>
          <p:nvPr/>
        </p:nvPicPr>
        <p:blipFill>
          <a:blip r:embed="rId2"/>
          <a:stretch/>
        </p:blipFill>
        <p:spPr>
          <a:xfrm>
            <a:off x="2133720" y="1066680"/>
            <a:ext cx="6360840" cy="5316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886200" y="434340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971800" y="510552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4876920" y="5257800"/>
            <a:ext cx="38088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4724280" y="3733920"/>
            <a:ext cx="38124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1295280" y="914400"/>
            <a:ext cx="670572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ez une feuille et écrivez le nom des capi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288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36484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2440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2440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2440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e chasse au trés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1295280" y="914400"/>
            <a:ext cx="6705720" cy="77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êt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Mad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Pa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je suis à Lon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2288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236484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440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244080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24408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14040" y="-3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’Asie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2438280" y="5562720"/>
            <a:ext cx="4321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5" descr="images-7.jpeg"/>
          <p:cNvPicPr/>
          <p:nvPr/>
        </p:nvPicPr>
        <p:blipFill>
          <a:blip r:embed="rId2"/>
          <a:stretch/>
        </p:blipFill>
        <p:spPr>
          <a:xfrm>
            <a:off x="1523880" y="9144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26:26Z</dcterms:created>
  <dc:creator>Mr. Smith</dc:creator>
  <dc:description/>
  <dc:language>en-US</dc:language>
  <cp:lastModifiedBy>Viviane Grebert</cp:lastModifiedBy>
  <dcterms:modified xsi:type="dcterms:W3CDTF">2011-12-10T21:52:06Z</dcterms:modified>
  <cp:revision>87</cp:revision>
  <dc:subject/>
  <dc:title>La Touraine</dc:title>
</cp:coreProperties>
</file>